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2F1-A848-4640-9BB9-E8F52E89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874-A61A-479F-B261-988E28BF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CB3-AE80-45CD-A1AE-2C8ED964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649-C6A3-4D28-9155-C39E1809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DB1-780D-4EEA-9623-A973CA9E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C98-4DC6-42B1-80F8-4DED65B7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271-C3B1-4A83-A8AE-116BA48C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3C5-5382-4947-9F2E-00389237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617-8A51-4F97-BC6D-C85847CB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944-832C-44B7-91A4-6219C2BE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98E-7CEB-4D7D-9EDC-65FACFE9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2C1-4FC2-4FF8-BB40-05C12ADA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7425-A43C-48EC-BC98-769AE5D0E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das Mediev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te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31708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 Arth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24400" y="888840"/>
            <a:ext cx="209520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bin H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228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pas Medieva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65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446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313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11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3:08:44Z</dcterms:created>
  <dc:creator>Claudinei</dc:creator>
  <dc:description/>
  <dc:language>en-US</dc:language>
  <cp:lastModifiedBy>Claudinei</cp:lastModifiedBy>
  <dcterms:modified xsi:type="dcterms:W3CDTF">2009-10-18T14:18:19Z</dcterms:modified>
  <cp:revision>2</cp:revision>
  <dc:subject/>
  <dc:title>Lendas Medievais</dc:title>
</cp:coreProperties>
</file>